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077C-BA6C-4F98-80C4-218DB941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A1BF-08D3-4446-85BB-8F5E207B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64E8-0B8A-4C42-B2C7-EEBD3CDC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8CB-7081-433F-9A1E-C76C4EBA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288-2AF6-4269-941B-0AB230F8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3786-47D0-4813-A8DF-29F42F09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F5C5-72F1-4898-9F21-293296F1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9E93-8AD2-4662-A140-FB41BA31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9EB3-910F-470F-BB93-33FB5FAD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673-32FD-4276-AB19-F0D72E4B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5E7-BA9D-42B2-A2BA-C4A492E7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1AB-DC01-4252-B9C2-C1C134B2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A1648C-FD0C-4954-A7B3-42A77E0DB9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3AC8E-AB8D-4867-B780-31A05FF6F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pptfull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295280" y="302256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1295280" y="2590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d can do big things through us if we start by being responsible with little thing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295280" y="28702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5. TR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" name="Picture 4" descr="pptfull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1066680" y="2666880"/>
            <a:ext cx="708660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HOW TO PL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rue or false to the following statements about today’s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295280" y="2590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raoh’s dream said seven years of famine would follow seven years of plen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1295280" y="2743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1295280" y="25909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ph could interpret the dream but had no ideas on how to prepare for fami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95280" y="2743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295280" y="281952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araoh made Joseph second in command of Egyp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1295280" y="27432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3. TR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ppt3rd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1295280" y="25891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oseph turned away people from other countries and only cared for the Egyptia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7T00:09:29Z</dcterms:created>
  <dc:creator>Melissa Jones</dc:creator>
  <dc:description/>
  <dc:language>en-US</dc:language>
  <cp:lastModifiedBy>Sherilyn Dawson</cp:lastModifiedBy>
  <cp:lastPrinted>2015-09-01T14:22:51Z</cp:lastPrinted>
  <dcterms:modified xsi:type="dcterms:W3CDTF">2015-09-01T14:23:07Z</dcterms:modified>
  <cp:revision>242</cp:revision>
  <dc:subject/>
  <dc:title>Slide 1</dc:title>
</cp:coreProperties>
</file>